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FC3C-A78E-4C46-BE3D-7893BA830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4CF0-FC31-4F66-B4D3-ACCB2013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1572-D9DD-4AFE-A0A0-F704C622D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BA5B-389F-4036-BC4B-1DDF8456A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FA71-7DF9-47E8-AB2B-2C5AB7166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F83E-4F56-4C22-B534-F14396C5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62EF-E9A0-4300-B890-E810483A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CCF6-8F90-4A4F-B55B-97646FD5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F797-29F0-4A22-9C29-D03DA375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01B9-9463-4E5F-ABAC-A63FB9AC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2CF4-B02D-420C-8871-7F06B536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ACA2-0FC4-47B5-BF9C-EA58DAFE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5689-31B4-4F58-A006-4EFA81DE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1009-4D31-496A-A395-86930F36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62A0-0B0E-4D9E-97BB-17D74B1C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A7B1-7DC2-4C83-A440-841C9FDB7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4D5D-EF3D-4A56-B91B-A66989E0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7A5F-EF2A-4A12-BD8A-A869225E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C39A-6AAA-46BD-8ED9-6757090A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45CC-0110-4D6D-9909-44FC6519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E5CD-465E-47A0-A254-50E44950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ADEA-6BEF-4A08-A234-AC8CFB0F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3D30-0C7D-408D-BBE3-26F5F7E2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7D37-55E4-46C4-8060-EE1F2A56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0F75-C7C4-408C-BEB6-26FCFD5EBB4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4780-94CC-433A-AAC3-ACEDEFD574A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afekids.com/contract_parent.htm" TargetMode="External"/><Relationship Id="rId2" Type="http://schemas.openxmlformats.org/officeDocument/2006/relationships/hyperlink" Target="http://www.safekids.com/contract_kid.htm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afekids.com/quiz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220968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Bradley Hand ITC"/>
              </a:rPr>
              <a:t>Keeping Kids Safe </a:t>
            </a:r>
            <a:br>
              <a:rPr sz="5400"/>
            </a:br>
            <a:r>
              <a:rPr b="1" lang="en-US" sz="5400" spc="-1" strike="noStrike">
                <a:solidFill>
                  <a:srgbClr val="eaeaea"/>
                </a:solidFill>
                <a:latin typeface="Bradley Hand ITC"/>
              </a:rPr>
              <a:t>on the Internet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Jennifer VanDoren &amp; Sarah Boughn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Wilkes – Emerging Techn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October 200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315200" y="304920"/>
            <a:ext cx="1538280" cy="1517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Bradley Hand ITC"/>
              </a:rPr>
              <a:t>Risks for children who use the Internet or other online servic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360" y="2743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adley Hand ITC"/>
              </a:rPr>
              <a:t>Exposure to Inappropriate Material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adley Hand ITC"/>
              </a:rPr>
              <a:t>Harassment and Bullying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adley Hand ITC"/>
              </a:rPr>
              <a:t>Viruses and Hacker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Bradley Hand ITC"/>
              </a:rPr>
              <a:t>How to Reduce the Risks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Parental involvement and supervi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If you have cause for concern about your children’s online activities, talk to the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Have open communication with your childr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Use age-appropriate parental control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Research software program that block chat areas, and web sites that are known to be inappropriate for childr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Bradley Hand ITC"/>
              </a:rPr>
              <a:t>Guidelines for Parents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adley Hand ITC"/>
              </a:rPr>
              <a:t>Set reasonable rules and guidelines for computer use by your childre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adley Hand ITC"/>
              </a:rPr>
              <a:t>Make it a family rule to never give out identifying or personal inform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adley Hand ITC"/>
              </a:rPr>
              <a:t>Check out blocking, filtering, and ratings applications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Bradley Hand ITC"/>
              </a:rPr>
              <a:t>Family Contract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adley Hand ITC"/>
              </a:rPr>
              <a:t>Parents pledg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radley Hand ITC"/>
                <a:hlinkClick r:id="rId1"/>
              </a:rPr>
              <a:t>click he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adley Hand ITC"/>
              </a:rPr>
              <a:t>Kids Pledg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radley Hand ITC"/>
                <a:hlinkClick r:id="rId2"/>
              </a:rPr>
              <a:t>click he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743200" y="3886200"/>
            <a:ext cx="3695760" cy="2682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Bradley Hand ITC"/>
              </a:rPr>
              <a:t>Online Safety Quiz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ffcc"/>
                </a:solidFill>
                <a:uFillTx/>
                <a:latin typeface="Bradley Hand ITC"/>
                <a:hlinkClick r:id="rId1"/>
              </a:rPr>
              <a:t>Click Here to Begin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495680" y="3429000"/>
            <a:ext cx="4419720" cy="313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Bradley Hand ITC"/>
              </a:rPr>
              <a:t>Social Web Safety </a:t>
            </a:r>
            <a:br>
              <a:rPr sz="5400"/>
            </a:br>
            <a:r>
              <a:rPr b="1" lang="en-US" sz="5400" spc="-1" strike="noStrike">
                <a:solidFill>
                  <a:srgbClr val="eaeaea"/>
                </a:solidFill>
                <a:latin typeface="Bradley Hand ITC"/>
              </a:rPr>
              <a:t>Tips for Teens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2743200"/>
            <a:ext cx="7543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adley Hand ITC"/>
              </a:rPr>
              <a:t>Think about what you post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adley Hand ITC"/>
              </a:rPr>
              <a:t>Avoid in-person meetings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adley Hand ITC"/>
              </a:rPr>
              <a:t>Read between the “lines.”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adley Hand ITC"/>
              </a:rPr>
              <a:t>Don’t talk about sex with strangers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Bradley Hand ITC"/>
              </a:rPr>
              <a:t>Tips to stop Bullying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adley Hand ITC"/>
              </a:rPr>
              <a:t>Don’t respond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adley Hand ITC"/>
              </a:rPr>
              <a:t>Don’t retaliat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adley Hand ITC"/>
              </a:rPr>
              <a:t>Talk to a trusted adul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adley Hand ITC"/>
              </a:rPr>
              <a:t>Save the evidenc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adley Hand ITC"/>
              </a:rPr>
              <a:t>Block the bully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adley Hand ITC"/>
              </a:rPr>
              <a:t>Don’t be a bully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248520" y="4114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Bradley Hand ITC"/>
              </a:rPr>
              <a:t>These tips and ideas are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Bradley Hand ITC"/>
              </a:rPr>
              <a:t>from the website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radley Hand ITC"/>
              </a:rPr>
              <a:t>safekids.com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4:17:33Z</dcterms:created>
  <dc:creator>sboughner</dc:creator>
  <dc:description/>
  <dc:language>en-US</dc:language>
  <cp:lastModifiedBy>sboughner</cp:lastModifiedBy>
  <dcterms:modified xsi:type="dcterms:W3CDTF">2009-10-26T16:38:51Z</dcterms:modified>
  <cp:revision>7</cp:revision>
  <dc:subject/>
  <dc:title>Keeping Kids Safe  on the Internet</dc:title>
</cp:coreProperties>
</file>